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0AD-4EDC-46B3-9EE3-B6EBE2D4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63E-1EE8-4DE1-A514-2909515A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52C-18B6-41B2-A0A0-AE0A6EC4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C7A-8F99-419E-AB00-CF471482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222-35E8-41C2-AE16-E2A3477A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1A5-C701-45D6-81E8-4329CD9D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753-7DB7-446F-8680-9B1F8363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7365-F07A-42C1-9AA2-74E9E1E2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E42-567B-44F9-AE2E-5E0F4156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CAE-C4CF-413B-A175-E1499E96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D04-02ED-4299-849D-79AA0707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3B9C-8572-495D-82BB-DD9C32D7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4E3D-4B92-475D-A3E5-DF5181631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62280" cy="553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92720" y="907920"/>
            <a:ext cx="47512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00800" cy="618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8592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1:30:32Z</dcterms:created>
  <dc:creator>01690112</dc:creator>
  <dc:description/>
  <dc:language>en-US</dc:language>
  <cp:lastModifiedBy>01690112</cp:lastModifiedBy>
  <dcterms:modified xsi:type="dcterms:W3CDTF">2009-07-14T11:33:08Z</dcterms:modified>
  <cp:revision>1</cp:revision>
  <dc:subject/>
  <dc:title>Slide 1</dc:title>
</cp:coreProperties>
</file>